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5.png" ContentType="image/png"/>
  <Override PartName="/ppt/media/image10.png" ContentType="image/png"/>
  <Override PartName="/ppt/media/image6.pct" ContentType="image/x-pict"/>
  <Override PartName="/ppt/media/image7.pct" ContentType="image/x-pict"/>
  <Override PartName="/ppt/media/image8.pct" ContentType="image/x-pict"/>
  <Override PartName="/ppt/media/image9.pct" ContentType="image/x-pi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9308-7EDC-4E3C-8668-10AB3404E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7217-DA17-40B8-AAE4-8BE02D66C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6398-53A4-457F-AB0A-707F6F83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C6F9-3018-404F-BE3B-2BAD051F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EBD2-4004-48B2-BE62-DA0F9F20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3F0E-AACF-4C8E-97E3-8E5D680C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5431-15E4-4547-81EB-43918B54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C9BC-105F-4D7F-B46B-2AA31D78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0753-1E03-4A3E-AA65-0C12C1C61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98D7-1B14-444D-8971-C9A265E4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83B2-7DFB-408D-9F88-16D1CD42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428-C829-40BC-AA03-D0885587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E9E1-A0C9-47E6-9D15-8165771C2B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Re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99172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722160"/>
            <a:ext cx="8521920" cy="6135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890280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s include CD markers and T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52280" y="2057400"/>
            <a:ext cx="4572000" cy="2971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724280" y="2286000"/>
            <a:ext cx="419112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4 terms for types of T cell currently exist in the Cell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adly divided into immature and mature subsets, and into alpha-beta and gamma-delta subs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enus term ‘T cell’ is the parent term for all types of T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64960" y="738360"/>
            <a:ext cx="8574120" cy="58910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ure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676520"/>
            <a:ext cx="8626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issues for 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apsed immature and mature T cell into the T cell te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de definitions more precise. DN1 thymocyte  -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some generic terms such as helper T cell, memory T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ew cells have two pa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anded the development s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2400" y="1828800"/>
            <a:ext cx="9021600" cy="3429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84582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869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458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9:39:52Z</dcterms:created>
  <dc:creator>Penelope Morel</dc:creator>
  <dc:description/>
  <dc:language>en-US</dc:language>
  <cp:lastModifiedBy>Penelope Morel</cp:lastModifiedBy>
  <dcterms:modified xsi:type="dcterms:W3CDTF">2008-07-24T16:58:42Z</dcterms:modified>
  <cp:revision>5</cp:revision>
  <dc:subject/>
  <dc:title>T cell ontology</dc:title>
</cp:coreProperties>
</file>